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A595-F4C1-4888-8037-9C8DCB32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06DF-5C71-468F-AC80-568BA5EF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95D23-B028-4978-B494-F5E4D741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EDF61-C7BD-404A-AE73-AE7B4EFE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7973A-29F5-4358-924F-9F2C8EC8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85B9B-E4E3-4464-9B6A-64411DD4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59851-C82E-4A78-A74B-89CCD84C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0A758-29FF-47A4-9D34-2765B755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1182A-D290-4597-9E98-2DFACC33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94177-A6A1-42F2-B074-B48C5952B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E3719-46BD-4C1F-8097-C063A2AFB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437CB-5532-41F7-9EC6-600CB83F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CAF4-9494-4E65-AE0A-82C92E87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2D400-E62D-4129-8FD3-7D602D29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C388A2-310A-4024-B0F5-4DFDBF83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DF4B4-E65D-4D4C-AE82-2CECB6C0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2C57A2-850C-4DD9-9CED-721414C4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2DE45-AD49-4B99-B767-DC2655DC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02FBB-3062-493F-A27D-E2C1536C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06513-5FCD-4DF4-9903-2D9A59CC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07F95-1EE5-49F3-9B40-C9E8BA25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50F32-F4C7-49EE-B370-128F5B3F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C2AC1-B69B-441F-8328-37E220CD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1A53-887D-457A-8DAB-30D68EAFF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F8CB1-AAA1-4693-BCCC-9C91CD1CC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BCFE8-E554-4A68-9EEC-AA93A4809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749F4-CB8E-493F-9EBF-C3915A7E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D34E7-4204-4131-B503-D7028381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EC33C-96C2-465E-9AE1-6F40084C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6FCCD-5982-408F-8D2D-6C80B0E8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A0F90-CD24-4505-9F95-41B81D53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1FE79-EF26-476F-BF33-CC8EC41A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AD7DE-3C4D-4BC4-A7D6-A8740CEA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B0BD2-AF08-40FF-9991-E7CE2F37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59B4-4CF4-4E49-9761-05EB02D3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C28C8-E104-44F7-A55B-F6C31968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D6A6E-6023-4711-A396-697CEE3B8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17FE6-57DD-43D7-AFBF-0CA96CCA4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42DB3A-43EE-42B5-8766-C87C7B97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F4FDAA-507A-4813-9C96-C32FCB3A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F3D06-F703-4C85-A7E6-71634E95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49EF5D-531A-47F5-ACC3-5224A95C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6482DC-BE9D-4095-A1DC-1B09DD85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38152-2B4F-48AF-9253-A5E8025B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76D73-A8B9-43C2-B74A-9D2ECF61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D983-752D-480B-BB83-DF4187C3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A6CF5A-0F9B-4080-9855-B288ED16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C0C0B-73BE-4351-A04B-6C568F3E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D0FF8-59E3-45D8-9BE2-0AF8B095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3CAE0D-0289-44CC-9057-57B156B1E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E83A4-BCE3-448F-A474-F564D863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F0C0-A8CD-4259-9559-0200C108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3E04-7A5B-4C5F-AAA0-D8E93A01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8A6E-91E6-4C12-9DB2-EF772F0E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12E8-0597-4DCF-8E81-CB774EC1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FF30-411D-42F5-A32A-3C06478B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D47A-B744-4CB7-B688-573C32C1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168D-F0E8-4BDD-A542-C5CAA317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1CDD-C6B4-4B40-BE2E-A38A2A1B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B647-675F-4536-B5FE-BADE11AD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500B-D2A4-4204-8E78-FE321776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F364-15CD-4B7C-B823-B7366BCC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3B408-57AB-4093-BD0C-08DD7EBAF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83798-DEA2-494F-8344-D088002E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3E14F-A3CC-4687-8230-4408FDD4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EA3C6-9CC4-44EC-B6C5-FEF5D358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6CABF-FD82-43BD-AFFE-FDAA7612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05D1-9374-4AB3-A87B-ED3608F1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B63EF-9552-40A4-B4D9-08DB550B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CD44C-6A14-4BE8-ACF3-AA13D929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BE6CF-F54F-4072-B5B9-E5D34519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62D9F-6C81-4D06-88E3-B1C61C8E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DDBCB-6972-486D-862B-BF65CE3E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52660-9CAD-480D-8673-3089CFE03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B0B0A-340E-44F4-843C-89B825051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B75AD-29D0-4366-B030-2624EAC9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F5D3A-9B2E-4E1C-93E0-503107EB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95B3E-4A5C-4FCD-B66B-8C95B785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5B46-AAB0-4E31-AE90-68E96689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32BA0-A7BC-46D9-926E-5835D329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3E20B-B409-4BCA-A90F-19A8EDD6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F6F33-396F-45FB-8991-B8CFA100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25DA9-175C-4986-9FA2-F10E78CB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B9ECE-E935-4923-B590-AD1B699A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B594B-B621-4836-9A0C-8894CE43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93123-648E-49A0-B300-41008066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5D5B2-039D-459F-A76D-E2B4E50D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464C6-5C42-431C-9E35-439E06B44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3B14A-40CB-4DD2-8DBE-9CF4C9D56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7CA5-5BFE-4714-B2CC-7B2B799C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65F32-E560-4411-81BC-B4D9B434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FC64C-E29D-4D76-BD73-533A790C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FC678-1B56-4B31-A24A-61D180B2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BB9A6-4645-4B40-B0EA-A3FB8D28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63DA2-8DEA-4694-A3E0-3212E8E8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2A8C3-6F46-470C-9A93-214F8B3A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B7D57-7069-4B19-94D7-BB5044DC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5F8CF-C96A-4F8E-ACEE-A5B05F1A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532A9-ADF1-4CDD-95BC-AA93D0B2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6BA56-1803-4F20-9E8E-2BE55F2F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C07D-A55C-40A5-8A7C-EE093F7D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4BAD7-D14E-466D-9DA0-31525FAAE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9FC6D-6EFA-4483-B1A3-1BAC5C476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3C0F1-9D2A-463D-A702-082FCA94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D5EE7-9FD2-4487-A76A-A95F131C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5A0A6-BD47-43F2-8A09-8738C471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2993C-40AF-4B79-8CCE-2E870E72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32B9A-AC9A-4421-AB48-4C1994F6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38325-EDB0-4F52-940E-E2B52C5B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5E500-A23B-4670-BD71-2C848F31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432AC-DCB7-4F47-88CB-351646BE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E275-97C9-40CD-AEC9-561EEB5D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EC9CF-5495-4B31-8C22-B4D561C0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9D17E-35E6-4561-BEB8-CB7ABD6D5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5ADD3-7BD4-4D30-8150-A1FB4A8CD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E9904-679B-4F0F-8290-A4922BB5B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D4002-5076-46CD-AD1A-6824937F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4175B-B6E1-414C-9DDA-30FF0C0E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B96CD-0390-4B0B-9CC2-FF3B3861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CF725-5F89-4B50-8A44-5136AA88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A2D21-9488-46C3-A840-BFA13F87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4283E-EAA0-4BFF-87BB-F00F2390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A6D7-40D8-47D3-9624-9058D2D0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56EDC-268E-4AEC-B517-9D177EAC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75E6A-B167-475E-ADD5-4CFEF8B0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B5581-53AC-4908-82E6-07746FE6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40133-7964-47E9-9737-EE4574E25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F9FA3-B2CB-43C1-B904-0E322E8CF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5B6FC-723F-4FFB-A821-E7E8A322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691AA-D9DB-40F3-8C10-9DBA7668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C441E-2578-4262-8930-5EF382E2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FBEE3-9143-40C3-AC06-8747CA80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DC4F8-18AB-4B41-845C-4C65A7AC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60CF-34D1-4787-AE82-435092A4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02B02-6BDC-4E98-922D-6970AE0C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C4F5A-8516-448B-A997-75B077DF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B73DE-1B89-41C0-9260-657D440F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CA0A2-ED16-493D-8ECD-1A8C0065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52309-6287-41A9-9E8D-D0F79058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B9DF2-BCEC-4B63-B7C8-69E49B24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E9A26-4A95-4F37-B203-A2B023E5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33A855-3578-4885-AB30-4A32E55E9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89CA6-C588-43A9-B5AC-3DB33DA4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B55EA-A69C-45A1-BBF3-5AEFC315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CC40-23B4-4C7F-B368-6BF957C5F68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34F0-CADF-4D86-B08E-A2CDA8F613E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8CB0-BE2D-4F4B-993D-08D2CE451A1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3437-223A-4C10-B6DC-1E4A5B2348B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2712-996E-42EE-9A36-9B1AC3C2D9C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99F8-0E31-4169-A968-D519B025C5C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5AD1-451F-437E-8D05-87E65B3D164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BA43-1B83-48AC-A218-162FE2BC0BD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4F4D-2DAD-4685-9779-8D1735B616E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4A27-EAF5-407F-89C2-C91168FB975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6975-ADB9-4C98-B917-6D2043E2AFA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AEAB-520F-4CD5-846F-CDC89C9CB65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61 Zaspievajme radostnú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iese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spievajme radostnú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ieseň vďačnej chvál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Pán Boh je doposiaľ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milosti k nám stá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žišovým vzkriesení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bavil nás pút hrob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to vďačne spievaj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dajme chválu Boh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istus spútal hriechu moc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radby zloby lá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vetle kríža z Golgot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čný život má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1026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rť, tvoj osteň, kdeže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tvoj triumf istý?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platil dlh Baránok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vinný a čist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áchrancovi patrí č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leba a slá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 zásluh nám hriešnik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čnú spásu dá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dar toľkej mil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rúcnu vďaku vzdajm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istus je náš Spasit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ývajme ho, chváľm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5-15T08:05:27Z</dcterms:modified>
  <cp:revision>35</cp:revision>
  <dc:subject/>
  <dc:title>Je veľký náš Pán, on slávy je Kráľ Nech do všetkých strán  spev vrúcnych znie chvál.</dc:title>
</cp:coreProperties>
</file>